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558-911B-40C7-AFFC-9A83E0AB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362-4E3E-4136-8368-E2BF90A1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EC410-FD97-4B5E-91DB-6B88485D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56FDD-BE96-4301-B7D5-1252C252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9F945-656C-456F-93E2-7303A9D1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28A43E-DD6A-460D-B5ED-0E73C25A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3BFE9-D2C8-4913-8FA3-AD0B7C26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3E790-6CF8-4A02-A8DC-0BDB93D6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5D1BE-B0C4-4153-9EC6-C842C196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2BB43-17D0-4C45-B5FF-E0F1D755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0A362-C22C-4EB8-B753-1E27902A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84B04-A9ED-4856-B99A-6F03FC86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6AB-CC17-4B0C-BE2A-097A29AA0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04107-F72E-4E74-8F24-4D5AEDCE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F62914-CAD9-4007-9B05-CAE3EBDE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453EBF-9F2E-45D1-A157-BC7A6D54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3C777-892F-4F76-8172-0EB255EF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667BB-7C32-46BB-AD70-9C45F5CC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F7984-0D8D-468B-AA8E-FA48D487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3E0231-CB2E-42A7-B863-AF5C5FA5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D7CFA-EC12-444C-9D1D-82B3788A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02180-D375-42C6-BC36-7E7A5A1F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3CA14-3123-4593-8B83-6A94038F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831D-0DAD-4C3D-9795-0F1891F7C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BCECD-8A3E-44BE-9229-2471B97E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4C1E7-25D0-4B11-9330-3EE8A70B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32168-A7CE-4752-9A2A-EBCC5FCE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7AA40-29E5-4E2F-A62D-363788B6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446C8-65C5-42BE-8CD7-D84C4330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4CF9C-6982-41FA-95D1-363C7E1A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87A71-0340-46CE-B807-1EDB6ED7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0CB4B-001A-4BCC-A777-9DB39D7E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C1576-DC21-4243-9A8A-0CE19D25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CCE20-1AC9-4D9C-A04C-2FCAFAC7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53C6-4F74-415D-9E34-1DE73A37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9C55C-8B33-4744-8BAD-1CDEB34E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C32C1-1FDC-4B71-8EAD-A5BF3E7B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E648B-19FF-4DC9-961C-1F5CCB90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3670A-5589-4370-A2BD-03B4517E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0704E-7EC5-4CBB-98FB-71B65DB1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7D9A4-2B4E-4882-9B81-79FA7B41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47010-BF38-4098-A296-4C9CAED1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0AEE0-6C30-4DD7-B45D-9078F535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7C0BE-AEEA-41DB-8310-DA71DD42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78784-34D2-4569-9F9D-ABF51937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CA14-8A33-4F9D-84AA-DCF1BBC9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C9755-6258-42AC-A0A2-B539B834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F9176E-0887-4CE6-8A96-6E1B41B2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580AD-802C-438E-827E-A4A345DB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15CAD-2938-4CC9-B600-8901DD43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F0F7A-90F1-4621-90BE-1F894DD7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C59F5-2C62-4C59-B264-150F8EF1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383B9-8D45-41C8-ABE5-0162E6F4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9029D-DFEE-4E05-B8C3-13DC0649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D8753-3726-47DE-A244-5A8D5A51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CD33A-8758-4E67-97CC-E8F6C0DA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C0535-102D-486A-BED6-673316A1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0774D-22D9-45D5-BA0B-8566D63B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B1ED7D-C0EF-400A-9AE1-D6CEFCC7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DA25D7-E66C-4C46-93D6-79D1B667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03B5C8-4630-4F4C-9CBB-841C92FF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83BAB9-5A7A-4DEE-B45A-05CA59E5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893806-160F-4AF8-B879-2FA0D9A0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A6298-002C-4B4E-8430-2707FB34E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FA86FC-44BA-44A4-8E2D-AFF7BB8C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718CB-DB8C-4673-B64D-99B3F26C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126F3B-F730-4514-8F89-A418772D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A685-8F91-4069-BF59-C1C08801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507A0A-4622-4C15-82C6-7D4714C9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3E8351-C3A3-4135-BFA9-55B96748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F4B60-1DE2-4B3B-AB21-9B4C8780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D6C26-486F-4B1B-920D-4EBCC825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8D6433-804D-4BA2-8514-129D7881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C38AE7-5583-42EB-9CD7-6546BB9C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166CBE-471F-4FAB-8564-B38949B0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8CC3E-045B-4CED-846D-0FE20B76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BB9F3-5E09-4D25-80F4-C43ADB19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0EB15-0BFC-4BDD-8157-A870EED6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F9D7-B48F-457E-A5F8-D6E183DC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2CBFB1-5687-4EBE-A40D-F02C7427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47EDD0-5BF7-4F87-B5B9-02AE2D3F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0E6FA0-AFB2-42CC-9E88-4C5B760E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91BB51-A8CA-4C20-B540-755B9C74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E24C5E-CD9A-4A0B-8403-9601A0E3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D3BDBF-C1C8-4B9F-B48D-9D3011AD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80C9F0-7FF8-47E8-A9CB-31202E0A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E9521B-BEA1-4600-B291-FA1E2288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59DEF4-5836-4E52-A3FC-604D9170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11FAFA-6AEB-40FC-865A-1E44176A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6B26-C9F5-459E-B28F-AD2C9547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E0975A-A2DF-4E11-A76B-8A17F0A15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9C927E-5395-450D-8922-E14B5FC1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9E6BB1-18C2-4E64-98D5-C64136F5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D407CE-F960-4BDC-AC05-66ED7F19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C43326-6559-4C30-88A0-8DAA9153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416221-DD86-4AF7-8686-B63E4717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698AB6-7291-40C7-B6D5-D3A9B08F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A014B5-4B1D-4FEA-8C67-F0E201F5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DF26C3-4D94-4CF4-8095-91838E81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7F43E0-86A0-428C-BE79-CAC7CECE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6E6D-1211-4098-9F9E-48591B5A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D48FF1-5C25-46E9-B50D-4CABF709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C86AE6-E924-40AE-B5C9-EBDC9CD3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5C8BEC-2749-41C4-BC6E-B6AD4F48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3C8A17-379A-4BF3-BB56-9D12B2B3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EC3D6A-C801-48E2-986D-05FE58C6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9549C8-B29A-4292-BED3-14313F76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C27530-3C7C-4983-A7AD-91250B29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5E28E0-EF27-405B-ADC2-30D49883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8E10D0-3B52-4FC1-9A48-146ABFDE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08E0D8-9EF6-48AC-B98C-87A37B26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FDD-E9AF-4F88-A240-DBC3B56B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C08E-4AAD-447F-9BCC-568A86C4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1E817E-2CBA-4065-ABF1-0AF896F1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15801D-F78D-418F-BDF3-531B2237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850104-BDC1-429A-BD51-77D68D47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5BFD0B-5332-4452-B0DC-52774EE1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DD3E51-C37E-4D50-A6DF-631896BA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E50CEB-46A4-4AC4-9E3A-100C8EF85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63F89B-0764-4B9D-8D3D-BA958A42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1DF053-C3AB-4C91-91F3-D020E288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61FEB0-BC47-4EDC-8D74-D6CF82CB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6FA144-B30B-425D-8CA4-F83057DD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C8F4-0AE0-4FD5-96D3-0917302C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7EDFDC-F976-4DE0-B0EF-819EED09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B209BE-32BC-4CA4-A6CE-BE955B60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C016C8-33F9-48B5-BE50-732E400B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339B53-FDCC-4889-9154-4CE1B32A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665E00-D916-4352-AC26-75625C4E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7B6049-3FE6-486B-BFE2-F0528880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BE855D-75C5-456F-8CD1-19E73219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7E4E31-111E-4C76-BE9A-752C439D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84CCB2-8747-4DC6-9F2D-7F71178F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2B09A2-7BD1-4AFA-B090-69587BF8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9ADF-FBF8-4673-9B15-0B671463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06B812-518E-40E1-A5A8-A8701C2E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C6CCD1-CA6F-40B5-A442-0D2F6E73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B68D0F-DA8A-4B52-803F-DE74B7C0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426DAE-B43D-419F-8229-28C82BA4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15C4F6-839C-4C10-B9F4-1526629C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C3F8C2-C70F-478A-94E1-E5429B07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D084F4-30A6-4645-9A16-1F772AF2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C1E8CA-925E-40BA-9A03-3EEA2865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6BA96E-288C-47A0-A180-AF54B326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FA3CF9-AF49-4F30-921E-4227ECB5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C10B-2910-410A-84E8-7073CEC1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B728A6-DEEC-4937-ADC6-F2CC05F4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6EABE2-ABBA-476B-9754-858B5CBD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9630D0-6561-481C-BB38-7C45156B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702967-107D-4A27-88D9-4ABE3681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EDF227-E5A1-4B75-A3E9-087F89E5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735B2A-2396-47EC-8328-B3AEF691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229ADE-208E-4898-8D52-FA096920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36F32F-E497-44F7-B0FE-129E9351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2FF371-51E5-4196-B26D-006D27AA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23192E-3462-4CD4-8AE1-F03519F6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3D07-4610-49E5-AD68-C5E8D184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CC08A2-80B6-4B4F-BC29-19AE6C1BB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4C0D24-D34F-49AF-B230-22008B43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66573C-72CD-4CA7-88D6-F9947EC0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9615EF-A480-4380-B818-DB94790E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AC8613-16E4-4C70-95BF-3877BF04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1C7951-0029-4716-A1A3-CC339BC6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05553B-9143-4344-B86F-23B27279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454ABA-ABEA-44DE-BB86-F359DEAA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7FB27F-EB9B-4ED3-8194-2F73D71B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B665BF-F4C5-4979-8678-FC2319E7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F568F-F963-4C8C-A65C-0D4802C9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28C63A-FBD1-4AEC-8CD0-143195B9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C736B1-1E74-475D-84B2-4192E1DB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0E395E-41E2-495A-B9A4-205861EA0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B5EB3-612D-4B67-85F1-A7249E41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7E3C0-071A-47F7-856E-DB396D61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26C63-CC2D-47EF-AF8E-3A1083A8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03E7A-8B36-43A1-A12D-B1CA9ED6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71E-D5C4-473A-B5ED-26042B10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DADCB-A8E3-404C-9003-4E6E9BF2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D9286-1541-4BA9-8989-D2D4BF1F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1601F-B9BA-4F2B-962F-97AD5498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A6A44-FFC9-4B92-A157-4B7A98A9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2D410-342E-46CC-A216-00FF71C2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F9501-FA9C-4F6B-B2E4-AB2FB970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C649E-C961-46F4-92D5-9115100C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DC013-E20A-4585-813C-CDD417AA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95407-9D92-4056-ABAE-66B30F74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63BE2-4E41-4280-AB9D-673B70E5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E5C4-83EB-43B2-B06E-E24BAC07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76C84-71DE-4578-B052-C1CAB969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4512C-6721-4FA6-9178-254632A4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F3B82-8F62-4779-9186-A1E6564F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52B57-FC23-4281-8A48-E1C16EB2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E645C-2CB9-430A-9769-5C49B144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AA581-E508-432A-8E28-859EA10E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CA0CE-1F6D-47F6-9644-C512D922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7B15B-7E8F-4FA6-8A6A-EB03E131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5D2F4-0F38-4DF9-B427-B9E22AE3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A3E42-2925-4CB9-85BA-B25926DED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56D0-AF5B-4562-BED6-371ED543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8E31C-CE14-4DCB-865A-BAEDFDFB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9F49A-5930-4D4F-BF68-0AAEA100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DECF1-6688-46AF-A4B9-929618CB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0DF9B-986B-4373-B9A1-4CC73360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DAD75-C3C8-4745-B94A-FD6144D5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E7B76-0BB8-44B2-8663-99B8E056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BA85D-3EE7-4FF2-ADD0-4ADBF3B4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30BC6-E15D-412F-AB9E-263B597F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A8E1D-2F96-47A0-8C7D-82A932C6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394DF-BB34-4028-B8C0-FE63BF79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3A2-2032-4202-91C4-0B789718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161D5-22CC-4577-8B59-078E9DBD1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482C3-C9A1-4FAA-9C3A-C226974B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6632C-AB8A-4103-8E0E-F09DAF3C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8A5B6-EB82-40E0-BD84-DBB018AF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BCA13-9724-4473-858C-862E3BF0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22992-13AC-4B3A-9742-C46D9954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72B22-C43E-4357-8E46-1D73A362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09A5B-57EB-41B6-84C8-652C39CB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0513F-EC42-482C-BCA5-F6A423D1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FABF2-D06E-4EA4-9149-9EFF5C15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BD0-482E-44D0-ADA2-E8386D89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10F62-F232-4589-93E9-E8485B76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3218C-4E98-4917-9377-BCFDCE5A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E1766-0EEC-4C29-B72A-25C8A305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C6420-0B1E-4E70-8A35-67195B2F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B6AC7-0CB5-4C5F-A5CA-B66908AE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0E328-8306-4721-9E49-0EEAD317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09FD0-4F72-4843-9300-2A502080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C3924-7127-4ED5-8642-DFCF52DD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4840D-1EBA-4A4A-9DC3-BD6D19E18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E1A33-23D1-4273-AE94-4DB21020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D4EC-DECC-4649-8943-7F20A00A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68297-D11F-49BD-81C2-D825F950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5D011-929A-40C7-895A-AAE47851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DF2D3-EA04-414F-82CE-6979C8CF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5E4B9-D7D1-4D96-962A-241D945F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D65BA-E6B7-4FC0-91DC-51EE66D57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7F585-971B-4A34-A370-F77D7831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9BB14-5C41-42B8-AE64-EBE75B96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73BEB-ED85-444C-A205-1A68A3ED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23B1F-C5C0-4149-B0B5-E2D72D8C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1A243-FF34-46B4-BB79-1EB3E5B6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F8D-C91D-4289-BD1E-35F593B4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01EC7-6602-4ABB-A90C-7370CBBD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6C30F-B83A-4BE3-AAC7-C67E7C48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F29CA-D60C-4946-8027-6D2B6784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396C9-86FA-46DE-B05D-0C11ED69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975B1-ECA5-4C0F-83A5-2AD8216E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8A678-57A3-4003-B291-875C9513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68213-A81B-4B3E-9C53-2B991009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DDE94-C452-4D8B-8A0D-A4BA764C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4079A-E5C7-4C4A-9553-49F823F4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EA2C4-B923-427C-BC4F-DE0B559C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52C2-CE27-4142-BA4A-8D141AF75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6AB5-0C3A-4EDD-99E2-4727B3FA55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0073-ADCE-43F2-87B4-21828287B8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FFDA-695C-4939-A0F6-D02BE09083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ACE0-8951-4D7B-A7B3-9C87CFF17D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4293-8082-4813-A76E-A50C4159AC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0250-5734-40D2-A8B8-96E9B39480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688C-81B2-421B-81F8-635D6FBADF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F060-1368-4935-9992-6498BC9068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687F-5515-49F4-B26F-5303423F03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9151-6A45-4FCF-BC12-0643E09135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BBFA-2429-4B49-AFE1-008323BA7C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65B6-0AC6-45DF-B60B-4998D68AF5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CDEA-79F0-404B-BC74-99CC97A81C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02C3-2282-440A-A2E9-35FAD6B356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D101-0C7D-4F27-A0DF-8A8B2C7A14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030F-BCAC-4CC3-8B88-0802E14917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9424-9919-4791-A18B-35728B8F3A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01E1-8D07-40A0-8578-63FA0B0981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D4A8-84F8-477D-B1F4-03DA186708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4A84-E593-489B-9B92-6CC9EC9B8A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34CA-95C2-427B-B93E-6A88A76913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B514-7A40-4BAC-92EC-7BCCC37189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96B9-4865-4B9D-A33A-1E3D1D983C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2831-0211-4FBB-91B9-435D6C37F5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DBA1-773C-44A7-9FC1-ECC4463C56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DD5B-7A00-4319-96D3-73624D6654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37C1-4A0E-44AA-8FAD-0FDD4A9FB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0354-F893-4853-9F24-A2CB3D128B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B706-35CD-4774-97C5-48814F9F4C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710E-7F5C-48AF-8E2C-7D46AB52CD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BA4B-505F-46DD-B8EF-4316FF1EC8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5B44-0885-4093-B4BC-54D37BBC42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0B7C-83A8-499C-A75C-01577F445A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6A00-6C05-458B-BF18-FD516316BB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3109-5BD5-405E-B1AA-469F1736D0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A82A-9FAE-4818-9724-3B8362797D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05A8-5E93-4855-B980-D019221B85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62F0-5FCB-4BA7-8278-47C3241C69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4AB1-86F4-4B0F-8840-85457B3185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357120" y="3254400"/>
            <a:ext cx="842976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2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7245360" cy="59295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2050920" y="277488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2050920" y="457524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2050920" y="6313320"/>
            <a:ext cx="43200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Picture 2" descr=""/>
          <p:cNvPicPr/>
          <p:nvPr/>
        </p:nvPicPr>
        <p:blipFill>
          <a:blip r:embed="rId1"/>
          <a:stretch/>
        </p:blipFill>
        <p:spPr>
          <a:xfrm>
            <a:off x="590400" y="1019160"/>
            <a:ext cx="7963200" cy="555300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2"/>
          <a:stretch/>
        </p:blipFill>
        <p:spPr>
          <a:xfrm>
            <a:off x="1846440" y="104616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3"/>
          <a:stretch/>
        </p:blipFill>
        <p:spPr>
          <a:xfrm>
            <a:off x="1428840" y="3071880"/>
            <a:ext cx="721044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557280" y="995400"/>
            <a:ext cx="8029440" cy="5505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2"/>
          <a:stretch/>
        </p:blipFill>
        <p:spPr>
          <a:xfrm>
            <a:off x="1692360" y="213372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3"/>
          <a:stretch/>
        </p:blipFill>
        <p:spPr>
          <a:xfrm>
            <a:off x="1692360" y="508464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857160" y="785880"/>
            <a:ext cx="7277040" cy="33145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2" descr=""/>
          <p:cNvPicPr/>
          <p:nvPr/>
        </p:nvPicPr>
        <p:blipFill>
          <a:blip r:embed="rId2"/>
          <a:stretch/>
        </p:blipFill>
        <p:spPr>
          <a:xfrm>
            <a:off x="781200" y="4286160"/>
            <a:ext cx="8076960" cy="24861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3"/>
          <a:stretch/>
        </p:blipFill>
        <p:spPr>
          <a:xfrm>
            <a:off x="1403280" y="278136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9" name="Picture 1" descr=""/>
          <p:cNvPicPr/>
          <p:nvPr/>
        </p:nvPicPr>
        <p:blipFill>
          <a:blip r:embed="rId1"/>
          <a:stretch/>
        </p:blipFill>
        <p:spPr>
          <a:xfrm>
            <a:off x="642960" y="1071720"/>
            <a:ext cx="7896240" cy="54100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2"/>
          <a:stretch/>
        </p:blipFill>
        <p:spPr>
          <a:xfrm>
            <a:off x="1835280" y="105264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3" descr=""/>
          <p:cNvPicPr/>
          <p:nvPr/>
        </p:nvPicPr>
        <p:blipFill>
          <a:blip r:embed="rId3"/>
          <a:stretch/>
        </p:blipFill>
        <p:spPr>
          <a:xfrm>
            <a:off x="3492360" y="1052640"/>
            <a:ext cx="1008360" cy="4381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3" descr=""/>
          <p:cNvPicPr/>
          <p:nvPr/>
        </p:nvPicPr>
        <p:blipFill>
          <a:blip r:embed="rId4"/>
          <a:stretch/>
        </p:blipFill>
        <p:spPr>
          <a:xfrm>
            <a:off x="1908000" y="3011400"/>
            <a:ext cx="1008360" cy="438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5"/>
          <a:stretch/>
        </p:blipFill>
        <p:spPr>
          <a:xfrm>
            <a:off x="3564000" y="299736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3" descr=""/>
          <p:cNvPicPr/>
          <p:nvPr/>
        </p:nvPicPr>
        <p:blipFill>
          <a:blip r:embed="rId6"/>
          <a:stretch/>
        </p:blipFill>
        <p:spPr>
          <a:xfrm>
            <a:off x="5003640" y="2997360"/>
            <a:ext cx="1008360" cy="438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3" descr=""/>
          <p:cNvPicPr/>
          <p:nvPr/>
        </p:nvPicPr>
        <p:blipFill>
          <a:blip r:embed="rId7"/>
          <a:stretch/>
        </p:blipFill>
        <p:spPr>
          <a:xfrm>
            <a:off x="6516720" y="301140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3" descr=""/>
          <p:cNvPicPr/>
          <p:nvPr/>
        </p:nvPicPr>
        <p:blipFill>
          <a:blip r:embed="rId8"/>
          <a:stretch/>
        </p:blipFill>
        <p:spPr>
          <a:xfrm>
            <a:off x="1692360" y="5923080"/>
            <a:ext cx="5256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Picture 1" descr=""/>
          <p:cNvPicPr/>
          <p:nvPr/>
        </p:nvPicPr>
        <p:blipFill>
          <a:blip r:embed="rId1"/>
          <a:stretch/>
        </p:blipFill>
        <p:spPr>
          <a:xfrm>
            <a:off x="1000080" y="754200"/>
            <a:ext cx="7534440" cy="61038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2"/>
          <a:stretch/>
        </p:blipFill>
        <p:spPr>
          <a:xfrm>
            <a:off x="5796000" y="265752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3" descr=""/>
          <p:cNvPicPr/>
          <p:nvPr/>
        </p:nvPicPr>
        <p:blipFill>
          <a:blip r:embed="rId3"/>
          <a:stretch/>
        </p:blipFill>
        <p:spPr>
          <a:xfrm>
            <a:off x="7164360" y="265752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3" descr=""/>
          <p:cNvPicPr/>
          <p:nvPr/>
        </p:nvPicPr>
        <p:blipFill>
          <a:blip r:embed="rId4"/>
          <a:stretch/>
        </p:blipFill>
        <p:spPr>
          <a:xfrm>
            <a:off x="4849920" y="359424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3" descr=""/>
          <p:cNvPicPr/>
          <p:nvPr/>
        </p:nvPicPr>
        <p:blipFill>
          <a:blip r:embed="rId5"/>
          <a:stretch/>
        </p:blipFill>
        <p:spPr>
          <a:xfrm>
            <a:off x="5651640" y="542448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6"/>
          <a:stretch/>
        </p:blipFill>
        <p:spPr>
          <a:xfrm>
            <a:off x="7164360" y="5424480"/>
            <a:ext cx="1008000" cy="438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7"/>
          <a:stretch/>
        </p:blipFill>
        <p:spPr>
          <a:xfrm>
            <a:off x="4572000" y="6343560"/>
            <a:ext cx="1008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8" name="Picture 1" descr=""/>
          <p:cNvPicPr/>
          <p:nvPr/>
        </p:nvPicPr>
        <p:blipFill>
          <a:blip r:embed="rId1"/>
          <a:stretch/>
        </p:blipFill>
        <p:spPr>
          <a:xfrm>
            <a:off x="1009800" y="1000080"/>
            <a:ext cx="7124400" cy="55054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3" descr=""/>
          <p:cNvPicPr/>
          <p:nvPr/>
        </p:nvPicPr>
        <p:blipFill>
          <a:blip r:embed="rId2"/>
          <a:stretch/>
        </p:blipFill>
        <p:spPr>
          <a:xfrm>
            <a:off x="5364000" y="2050920"/>
            <a:ext cx="1008360" cy="4381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3" descr=""/>
          <p:cNvPicPr/>
          <p:nvPr/>
        </p:nvPicPr>
        <p:blipFill>
          <a:blip r:embed="rId3"/>
          <a:stretch/>
        </p:blipFill>
        <p:spPr>
          <a:xfrm>
            <a:off x="4427640" y="3027240"/>
            <a:ext cx="1296720" cy="4381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" descr=""/>
          <p:cNvPicPr/>
          <p:nvPr/>
        </p:nvPicPr>
        <p:blipFill>
          <a:blip r:embed="rId4"/>
          <a:stretch/>
        </p:blipFill>
        <p:spPr>
          <a:xfrm>
            <a:off x="6321600" y="3027240"/>
            <a:ext cx="1295280" cy="4381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3" descr=""/>
          <p:cNvPicPr/>
          <p:nvPr/>
        </p:nvPicPr>
        <p:blipFill>
          <a:blip r:embed="rId5"/>
          <a:stretch/>
        </p:blipFill>
        <p:spPr>
          <a:xfrm>
            <a:off x="5292720" y="4941720"/>
            <a:ext cx="1295280" cy="4384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3" descr=""/>
          <p:cNvPicPr/>
          <p:nvPr/>
        </p:nvPicPr>
        <p:blipFill>
          <a:blip r:embed="rId6"/>
          <a:stretch/>
        </p:blipFill>
        <p:spPr>
          <a:xfrm>
            <a:off x="4427640" y="5918040"/>
            <a:ext cx="1800000" cy="4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7:40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